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AC61-06EF-43DD-8E9F-B25E4ED1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8099-501A-4D8B-ABEE-6818CC8A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2C5EF-D320-4DF9-8D39-7D6D2AEC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EBA4E-C402-49EF-A66B-6721BD3D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FD932-528E-4597-BE3B-CCF9F64D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EDEB4-AFE2-4227-BBE6-4AE86068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44954-0B01-4F75-810F-4E8239DB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3EEF7-9AC7-4658-845C-55229AA0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63500-F2E6-4A99-8F98-83C739A6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58BCB-65DF-46C6-BDA8-0EB2485B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AFC2B-8976-43C6-AAB0-4D137299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C2A43-2C0E-4B01-81EF-BBE6BA17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FC2-1C4D-47D0-B061-43FD6E62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96245-4D9A-43C2-881A-CDF3CCA4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C22D2-867B-44F2-AAA1-7F071E20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F7D47-015D-45BC-909A-2A749493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B14E5-314E-42A3-980D-C812AD5E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73A07-BFBF-4DEB-A84D-BC287762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6F675-4FBD-4481-9450-A8E28029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6BFEA-C5A9-416F-BBF9-26FB35D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F125A-59C0-4546-AD38-41E778D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4ED41-DDDC-42B8-8D3C-063901E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A5E37-8AD1-4E1B-9740-C2ADC121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A19-8472-4010-991F-46F428AA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0AF01-5060-4067-BE8C-9EBE9758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6FF99-BBAB-4994-8E78-07F789FE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D6D37-ADC7-4DC3-960A-755412B0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60ED5-E65D-40D9-AACB-44C5350D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BFE56-8400-4D52-B1B1-AB9A91B3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E2EA7-DADC-4430-81EE-A0A21579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F8E68-9546-49C9-98AB-AF6C1FA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E4DB38-C3BD-45D1-AEEB-87BE8DDC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6849C-6694-47FF-9E45-877D586A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8DEB0-9DEB-42B4-A0DE-74838C4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B377-81FF-44CE-B169-E475428A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8FA82-DF62-4A3F-B4FA-7F8AA4C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5A725-46A7-48BF-96EF-471BAB4E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2E4D4-1B0C-4332-A957-5AFC8AE63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12AB5-0FE3-4F56-8C65-4837D597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7E556-57EA-4B5E-880C-E3FF4F36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A7F8E-C715-44E4-B707-639B1A6B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735FEC-7029-4EF5-A5A8-B5E0E0D1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D5BBE-E340-4BC4-8F8F-78506A5C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AC69E-1590-4519-ADB9-BD9AB23A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990DC9-E6F4-43C1-8E02-3BF7C092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DD17-AC93-44C0-A052-D3FBD82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5D847-FE64-4BD4-BED3-E6F31D2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47B78-1793-410C-A2AA-98C1FAE5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2953F-D319-497D-A400-83976E31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3A883-FEC8-4F27-9A34-9EE01993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9A571-2388-4E76-A6B9-9D34BB6D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49A16-DE4D-4643-9C5B-0C4F820C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C826C-34A0-43F6-965D-988844D7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7FA4BB-4516-4CED-9A1B-3E4886E7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60BFA-3228-41DF-9F87-8542DECD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D0909F-CC38-4871-8A39-DECD4866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9002-4ECD-4A6A-A0CC-AEA5E934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82600-F0D9-4EA6-B95D-9DB87F71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A7A72-9214-4CF8-87ED-39D004A4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C4C412-CD1B-412F-86D2-9F2FF55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3A01E-3499-4542-866C-B944970E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74933-6D3A-4350-891D-1334BA7E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2154E-0A58-4895-AB0A-7A72135A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23A98-33F2-4E99-AC8D-16390151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725D0-8EE8-4642-A308-6E5A5C5C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F23BE-1C42-4615-ADEB-CD915FFB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C688F-8332-4421-B6BE-6AB266B8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0057-FDF5-4FF9-8731-E3F71456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193DE-E564-4A3F-BBFC-8C5B6373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24D7A-12FF-489B-AE3A-3B3929EF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DEDD5-072B-45BF-BF77-C106B605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BBED8-3CDD-4447-9A1D-A8059F0F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EBD6DE-01DC-4CFF-A45E-B7726AE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05C40-EC3F-4D86-BD38-3403BD34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C63BF-0B81-4E54-BBF5-2F85E201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5251C-C78B-42ED-899B-1AED532C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50783-7716-4EA3-94C8-DE656E39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B1B30-175F-4820-B9D8-3FF93016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EC66-C6E2-4122-9AA2-6E5FB22D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139E2D-F62C-4721-B234-64903E09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FCED2-F9FD-4B3D-A07F-9803DC25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1C155-F30C-4CF7-A364-02EB4DAE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2571DE-6373-44CF-ADE8-B5CDC92F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CB5B1-6936-41C7-9B13-C29420C6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F2CE2-C14B-426D-ADF7-3BF44163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7D9B0-F132-496A-9AAC-8EDDD45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B5BB36-9073-4F5A-B857-50E1DD74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84419-1AB1-42F8-9DAA-2E48726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7012A-202F-4344-A289-A3767F97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78D1-4E0F-4597-8EEA-59A1C5F5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9D09F-A253-443E-9B53-8198FEBC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6F72B-530C-4552-BB61-36A7E9E7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9E06A7-0158-4141-BF34-C54420A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1486D-D160-42F9-886B-1BE025D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440AC5-1018-492A-9480-C41D02D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E9454-2ADF-4BA5-AB46-6D72B672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591860-108B-4648-8E90-1CEEF76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15D416-00D8-4AE2-95D8-E497905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1E21A-0AF7-4CC0-BB85-6B054DF4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BB6C8-C19B-42D6-A839-DF2DDED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D747-F5AC-4D40-AF70-4F0ACBD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2FA09-9767-49BF-A4AF-A4D768CF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898E2-F200-4636-BCF5-2BDDC0450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F12796-F4F8-46D4-B2B8-AA930BDC5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94DAD-3982-4B77-92AC-A49103A8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81AB8-FD03-4EAF-B129-8F722CA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D99F0-3C98-484A-A465-C24483A6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904C5-1AE7-49EC-BCBA-31351B22C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D23B6E-350B-4752-89D4-3132C438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EA88AA-A4FD-4070-BB30-360D64CB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05E0EC-BCD4-4DF3-9FDF-317B0F43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20B0-E73B-441A-98AD-A6920931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6A39-05C9-4C79-9508-1C62DBC5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E00A2-DF71-414D-9919-579496EC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A977D-9960-4070-8AC1-B0691B3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674D55-EEFD-4874-891C-19412605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352FF-BADB-4916-839B-E24B7A2D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A1CCB-56D7-4EDA-AA9B-76DC5749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0EEF9-6A5D-49D5-ACE9-E7C0E7469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4B5DE-E388-4AA9-8808-87D1F1A7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135456-ED05-4DCC-849B-6DFD375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D13D3-6E76-4D48-9EF8-0C3C910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A9D8C1-80DD-40A5-8DE8-6BFD5A52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DFBD-D3ED-46A8-AEC2-A1C99835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D002E-6402-47AC-AD64-3C0AF599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EFEDD-5027-4014-AF80-D780D068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F84B45-3E64-4BCC-A9B4-17DE292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9D82E8-3047-4426-8E96-A832ACE0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5D04C-86F8-4C6D-B915-99A3549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8CB4B-0ABD-4E25-9FC6-0503AA9D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E1113C-70DF-4832-80D0-79EB9239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95CCC2-4510-4603-8D36-28EB688B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694EC9-6E9D-47AF-AAFB-81A8BE0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7C5EB-E2C9-4504-9B6B-A1F00716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2F74-4EF4-4984-84A3-3C38A2A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0745F2-E9BD-4E24-84DB-F6DFE892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758916-D4C3-41ED-ACAE-DD5428E0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3C0754-201A-4822-8D30-517CBEB0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98E66-4DDD-4551-B790-82C9F9F4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27452-706D-4AEE-B999-578D3F7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439BDF-4054-4D91-BBF1-050D64BB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08B4F-8E45-4AB8-9682-E409A248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63FA7-DBB4-4D5D-90A5-8A737C003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86A426-5985-44C1-BF9E-34125014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6DFAA1-2056-463C-B98B-A950D48E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27D4-F7AF-4B39-96E5-7972814F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F4A21F-4DC7-4BAC-9CD5-61E28626D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A8D59-9478-4C8C-B469-D3288810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339387-7C5B-4C9D-AEFC-B165CBAB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4186A-AE49-4EC8-AE7C-F26542A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01FFE8-CE4A-4F55-89A8-9C29AD4E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DDC60-FFBC-4A7B-B2D2-8456383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4105C4-8836-4AD6-BCB9-2FE1306A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174252-20CC-4CA5-84F4-48C10823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AA469F-D493-420C-8C5E-5702BC97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0C340-1CA3-4273-B721-D16417C3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0C8A-2BC5-46DB-BC57-ECF5D150E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B1267-C6B8-46A0-BC08-40CF87B5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506AFE-2EEE-4A65-91CB-E8C5CCC9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3287B-4CFB-4444-BA26-418A5417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C7A992-EE9A-4C66-8F6F-3FABA48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78E142-4AD7-4D61-B068-DCDEFA7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84E451-B99C-442B-9856-3B7E8203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B43A3B-7E48-4372-BC33-7A8EBFC3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C9B53E-43DD-4069-8E01-3EC6D418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4C7B3-EE0F-4E39-8D0A-EBF623FE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1EFD6A-F07A-48C2-BD6C-014901A5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556FF-E416-452E-BB7B-C2C1221F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892EA2-1ECE-4E93-AD7B-0E486797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F12778-5944-4CB1-B814-B6155F48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C26E99-DEEA-457A-B4A8-5CDE6865D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F32F-0FD3-4158-BD00-E315087B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01AC6-099F-49D4-BF55-9AC4860A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E9FF-A852-4DEE-B855-C3AE9846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C8D2-2893-4822-92E8-2437FF36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2F8-0D44-4651-8DED-0B25655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D0DD-5049-4848-BC87-DFCBACAE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6966-436D-48B8-8F1C-B0B29445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24FB-89E2-4FDE-8F6F-08FEC65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162CC-E08D-4552-A8D0-9E9497E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E83C5-C21E-4B34-B064-366C17A4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DB729-291E-4DC6-A051-772DA3ED2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97BBC-A6DA-4B68-BA64-38421323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29F3F-49B8-4855-9584-736B0776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0CE7A-0A24-4023-9334-3C0B79F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81A48-F396-4222-A11D-027CAAE7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ACA-CEC4-41D1-A122-3AE8FF18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140F-A5CD-4711-90BB-99AF2BC1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501A-4C6B-4F94-B7B5-4BF2C5D9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5734E-A084-41C1-A126-90B46974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C876E-F1FA-4D96-B277-C0A65257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1997-4B85-4054-9A9C-D5876185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DFD42-3FD0-4F65-AF91-5632D450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D273-D5C3-49C3-A3F6-DEE7965C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D5ECD-4748-45CA-A199-51254F3E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0F08B-7BBD-4C57-A45B-1CA6C155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AF65C-29C9-406C-AA00-2943E220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E0D2-C7E7-4F1E-9CDF-200B8716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AE36E-E622-4247-9630-9B784C1C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5E89-EB4A-4098-85E9-72436818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C65F-5DAB-491D-997B-40BEF51F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D5E9C-E01D-4706-AA1C-BA85511F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B9ED5-FF33-42C8-BDDD-4BD64E29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3A313-99C4-452E-849D-82050F64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677D-F5C5-49EA-B009-475EB1F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DFB7-5564-4C5D-B532-4369070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2F6F5-E19F-4820-8A12-CBB964ED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BE7A5-051F-4A97-BC7E-5DA8D90F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189-7440-4F57-9BD3-6B1A1E54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B4486-254B-4A77-B4F2-F2A626553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28653-DCDE-4727-85C8-EA89E13C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D0A74-8B89-48EB-A83C-B63F5F8C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6C827-385C-4183-BFAE-B7912263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C3964-8E2A-4203-A581-B57F4D32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4B513-CB61-4754-8D56-D591482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3EA45-02D0-4611-B2A9-CF1AD18A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86BF7-5A04-42CE-8268-DBBB597A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98984-1102-48F6-AA0A-9C51941E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C4648-4DA8-4F6D-971B-CA5A4F0F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4FA4-3279-47C4-B658-E20D7F24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F17B3-76BB-417C-A202-F1D474F3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82400-5303-44A9-940C-3AC5F1D0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1334F-C01A-40A2-8E82-0F28EF72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5BB8E-AE25-4979-A811-D8177539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4D65F-C48C-470F-BA9F-4EE4E985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422C6-4B25-4C89-A5F5-B22C2D12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5537F-8C09-43E6-BE35-AC9A6565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AF7C5-A99C-4FA1-B456-E501EA29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3411E-E69F-4E18-8CD5-0D936B87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DBF89-E616-4D8A-9C04-E812EE50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9DC-3334-422A-882D-03AEF16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72093-81C4-4944-95E0-56A4D7A9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D94B4-333C-4989-9B48-5D248CA0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98EAE-6FAD-4AAF-B034-C4780FAA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C6BD7-DE07-4E5F-97CC-18457A54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10B4D-1E73-4920-B590-5EEDE11C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A6BBA-3AB5-4BC0-A7F4-719ED1FE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81C57-E10B-40C2-917F-5722748F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3D63E-636C-47CD-A4E8-CC0A31AD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B282E-76C2-4598-A43F-837AF1E3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35C11-5642-4EC6-AED1-277A4922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CC4-1676-4FF9-826F-98701650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9D3EA-AF4C-4933-BEE9-25177213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9A52DA-8547-48DE-8607-EBE1D821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57377-D202-4D82-BE35-77874F84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9C4C4-E9E8-4798-A99F-1D815C0A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1A23-A141-4663-A620-0E6663FC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136F9-A0C1-4FC3-B52F-7F9EE7CF5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D4C13-F1D8-48D5-8E08-E83DA3E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66746-B2B1-4684-8008-94846963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B0211-CACE-4CFC-8885-C54B4529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044A6-C081-4945-981C-8D67EFF9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73A9-B542-4CA5-B9D7-1FD4DF7A8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246E-4DF7-4A68-9EB4-42ADF47DCA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0676-9AA0-454A-ADBA-3E5E4F8E80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5AA2-160A-45E0-A945-0425A8F7EF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29A2-5253-43C8-A2AD-03ED87F732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1140-3A79-41F7-9029-F92CBAABB8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2DBD-99C6-46FD-996D-FD65E35C3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2541-6F66-468F-880E-7AE3B1C19D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334E-4FA0-47B0-BE6E-271765F41E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9ABC-E61C-46C0-8E99-11C5A15F6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0BF2-F17A-4137-81EC-13462C9652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E587-37EF-43A7-A56F-B918EE29DA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5467-5BE6-4C99-BFBC-0763240A39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1BEB-9EF5-4B1F-A06A-E1E5D5FAE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8DCC-D6F6-4757-A24E-949DB2E67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2C68-9B6C-4641-934A-26CEDA7D99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8B30-A3AD-4A71-93E8-D48F14207A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193-6D93-45ED-95C2-306626B83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0D3-C868-4F75-B84C-1F887A9A7E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2CC1-6861-487D-BECB-2CAFBB573D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8D6-30FB-4945-8B67-63DB741195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30A6-DABD-4069-B8C6-B7B0047E1C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2F48-0BD0-47B8-A935-8B796F1189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C6B6-6C62-4AC7-B9F2-C0ACBA36BF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8E12-A685-4D49-83E2-8A9672DFE2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944-A748-4CD6-AE18-B1AAC45532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5C7A-937B-4981-95D2-0EF76537B7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C142-4092-4592-BCCC-ECA65D6B6A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32D-1B67-4FD5-8FFA-D72907E3A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134F-35CE-43F5-AEB4-AEDD24F3F4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FD5A-9085-4BE5-B598-60901D68DB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A593-ACFA-491D-8CD1-37B116C4B1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2DB1-EB89-4F7C-9E4F-8BC2C0896B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3A76-51C8-49BF-9543-6168F4E12C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D92C-A16B-4243-8664-12B92EBED7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C702-74EC-4B60-BE37-1AAB2AA1FF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B5A5-85CC-43B6-AB6B-2525BDD20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DA46-926B-42BC-ACE0-D5B93036B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3AE3-CA69-480A-9971-7C9CECB4A4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9048-652D-4D42-A990-86C19B2988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image" Target="../media/image2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90600" y="1700280"/>
            <a:ext cx="4762800" cy="1181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095480" y="3762360"/>
            <a:ext cx="6953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266760" y="843120"/>
            <a:ext cx="8610480" cy="56102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826920" y="3803760"/>
            <a:ext cx="5689800" cy="506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689800" cy="506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539640" y="5229360"/>
            <a:ext cx="5689800" cy="50616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179280" y="5950080"/>
            <a:ext cx="56898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642960" y="882720"/>
            <a:ext cx="7858080" cy="57150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788000" y="3141720"/>
            <a:ext cx="936360" cy="506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2484360" y="5675400"/>
            <a:ext cx="936720" cy="506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7164360" y="5661000"/>
            <a:ext cx="936720" cy="506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3492360" y="4365720"/>
            <a:ext cx="936720" cy="506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156360" y="4365720"/>
            <a:ext cx="936720" cy="5061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932360" y="6021360"/>
            <a:ext cx="936720" cy="506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4356000" y="5388120"/>
            <a:ext cx="503280" cy="5061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5724360" y="5402160"/>
            <a:ext cx="503280" cy="506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5062680" y="4264200"/>
            <a:ext cx="5029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9410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000920" cy="18860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59411" descr=""/>
          <p:cNvPicPr/>
          <p:nvPr/>
        </p:nvPicPr>
        <p:blipFill>
          <a:blip r:embed="rId2"/>
          <a:stretch/>
        </p:blipFill>
        <p:spPr>
          <a:xfrm>
            <a:off x="1835280" y="3284640"/>
            <a:ext cx="5457600" cy="2914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3276720" y="1052640"/>
            <a:ext cx="1726920" cy="5061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4643280" y="4667400"/>
            <a:ext cx="648000" cy="506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4427640" y="564660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76802" descr=""/>
          <p:cNvPicPr/>
          <p:nvPr/>
        </p:nvPicPr>
        <p:blipFill>
          <a:blip r:embed="rId1"/>
          <a:stretch/>
        </p:blipFill>
        <p:spPr>
          <a:xfrm>
            <a:off x="581040" y="1009800"/>
            <a:ext cx="7981920" cy="483840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4211640" y="122544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3276720" y="1787400"/>
            <a:ext cx="1081080" cy="506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5435640" y="1816200"/>
            <a:ext cx="1081080" cy="50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5"/>
          <a:stretch/>
        </p:blipFill>
        <p:spPr>
          <a:xfrm>
            <a:off x="1692360" y="2276640"/>
            <a:ext cx="1081080" cy="5061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6"/>
          <a:stretch/>
        </p:blipFill>
        <p:spPr>
          <a:xfrm>
            <a:off x="1979640" y="285264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7"/>
          <a:stretch/>
        </p:blipFill>
        <p:spPr>
          <a:xfrm>
            <a:off x="2050920" y="3371760"/>
            <a:ext cx="863640" cy="506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8"/>
          <a:stretch/>
        </p:blipFill>
        <p:spPr>
          <a:xfrm>
            <a:off x="5867280" y="4897440"/>
            <a:ext cx="863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8373" descr=""/>
          <p:cNvPicPr/>
          <p:nvPr/>
        </p:nvPicPr>
        <p:blipFill>
          <a:blip r:embed="rId1"/>
          <a:stretch/>
        </p:blipFill>
        <p:spPr>
          <a:xfrm>
            <a:off x="309600" y="1290600"/>
            <a:ext cx="8524800" cy="42768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164360" y="4797360"/>
            <a:ext cx="64764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7352" descr=""/>
          <p:cNvPicPr/>
          <p:nvPr/>
        </p:nvPicPr>
        <p:blipFill>
          <a:blip r:embed="rId1"/>
          <a:stretch/>
        </p:blipFill>
        <p:spPr>
          <a:xfrm>
            <a:off x="757080" y="2362320"/>
            <a:ext cx="7629840" cy="213336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1476360" y="4005360"/>
            <a:ext cx="64764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419040" y="669960"/>
            <a:ext cx="8305920" cy="614376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56325" descr=""/>
          <p:cNvPicPr/>
          <p:nvPr/>
        </p:nvPicPr>
        <p:blipFill>
          <a:blip r:embed="rId2"/>
          <a:stretch/>
        </p:blipFill>
        <p:spPr>
          <a:xfrm>
            <a:off x="1316160" y="1554120"/>
            <a:ext cx="2838240" cy="244800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56326" descr=""/>
          <p:cNvPicPr/>
          <p:nvPr/>
        </p:nvPicPr>
        <p:blipFill>
          <a:blip r:embed="rId3"/>
          <a:stretch/>
        </p:blipFill>
        <p:spPr>
          <a:xfrm>
            <a:off x="5421240" y="1511280"/>
            <a:ext cx="2971800" cy="2152800"/>
          </a:xfrm>
          <a:prstGeom prst="rect">
            <a:avLst/>
          </a:prstGeom>
          <a:ln w="0">
            <a:noFill/>
          </a:ln>
        </p:spPr>
      </p:pic>
      <p:grpSp>
        <p:nvGrpSpPr>
          <p:cNvPr id="953" name="组合 56330"/>
          <p:cNvGrpSpPr/>
          <p:nvPr/>
        </p:nvGrpSpPr>
        <p:grpSpPr>
          <a:xfrm>
            <a:off x="826920" y="4437000"/>
            <a:ext cx="3648240" cy="2392560"/>
            <a:chOff x="826920" y="4437000"/>
            <a:chExt cx="3648240" cy="2392560"/>
          </a:xfrm>
        </p:grpSpPr>
        <p:pic>
          <p:nvPicPr>
            <p:cNvPr id="954" name="图片 56327" descr=""/>
            <p:cNvPicPr/>
            <p:nvPr/>
          </p:nvPicPr>
          <p:blipFill>
            <a:blip r:embed="rId4"/>
            <a:stretch/>
          </p:blipFill>
          <p:spPr>
            <a:xfrm>
              <a:off x="826920" y="4437000"/>
              <a:ext cx="364824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" descr=""/>
            <p:cNvPicPr/>
            <p:nvPr/>
          </p:nvPicPr>
          <p:blipFill>
            <a:blip r:embed="rId5"/>
            <a:stretch/>
          </p:blipFill>
          <p:spPr>
            <a:xfrm>
              <a:off x="1979640" y="6323040"/>
              <a:ext cx="647640" cy="5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6" name="组合 56332"/>
          <p:cNvGrpSpPr/>
          <p:nvPr/>
        </p:nvGrpSpPr>
        <p:grpSpPr>
          <a:xfrm>
            <a:off x="4888080" y="4608360"/>
            <a:ext cx="3732120" cy="2133720"/>
            <a:chOff x="4888080" y="4608360"/>
            <a:chExt cx="3732120" cy="2133720"/>
          </a:xfrm>
        </p:grpSpPr>
        <p:pic>
          <p:nvPicPr>
            <p:cNvPr id="957" name="图片 56328" descr=""/>
            <p:cNvPicPr/>
            <p:nvPr/>
          </p:nvPicPr>
          <p:blipFill>
            <a:blip r:embed="rId6"/>
            <a:stretch/>
          </p:blipFill>
          <p:spPr>
            <a:xfrm>
              <a:off x="5419800" y="4608360"/>
              <a:ext cx="320040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Picture 1" descr=""/>
            <p:cNvPicPr/>
            <p:nvPr/>
          </p:nvPicPr>
          <p:blipFill>
            <a:blip r:embed="rId7"/>
            <a:stretch/>
          </p:blipFill>
          <p:spPr>
            <a:xfrm>
              <a:off x="4888080" y="5229360"/>
              <a:ext cx="64764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55300" descr=""/>
          <p:cNvPicPr/>
          <p:nvPr/>
        </p:nvPicPr>
        <p:blipFill>
          <a:blip r:embed="rId1"/>
          <a:stretch/>
        </p:blipFill>
        <p:spPr>
          <a:xfrm>
            <a:off x="328680" y="1338120"/>
            <a:ext cx="8486640" cy="4181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539640" y="2852640"/>
            <a:ext cx="8280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290520" y="961920"/>
            <a:ext cx="8562960" cy="49341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755640" y="3284640"/>
            <a:ext cx="4464000" cy="5061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755640" y="3962520"/>
            <a:ext cx="4464000" cy="50616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755640" y="4724280"/>
            <a:ext cx="4464000" cy="5065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11280" y="5388120"/>
            <a:ext cx="446400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40:4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